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32.xml" ContentType="application/vnd.openxmlformats-officedocument.presentationml.slide+xml"/>
  <Override PartName="/ppt/slides/slide70.xml" ContentType="application/vnd.openxmlformats-officedocument.presentationml.slide+xml"/>
  <Override PartName="/ppt/slides/slide28.xml" ContentType="application/vnd.openxmlformats-officedocument.presentationml.slide+xml"/>
  <Override PartName="/ppt/slides/slide68.xml" ContentType="application/vnd.openxmlformats-officedocument.presentationml.slide+xml"/>
  <Override PartName="/ppt/slides/slide31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5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66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.xml" ContentType="application/vnd.openxmlformats-officedocument.presentationml.slide+xml"/>
  <Override PartName="/ppt/slides/slide40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61.xml.rels" ContentType="application/vnd.openxmlformats-package.relationships+xml"/>
  <Override PartName="/ppt/slides/_rels/slide57.xml.rels" ContentType="application/vnd.openxmlformats-package.relationships+xml"/>
  <Override PartName="/ppt/slides/_rels/slide12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69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8.xml.rels" ContentType="application/vnd.openxmlformats-package.relationships+xml"/>
  <Override PartName="/ppt/slides/_rels/slide62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87DC0-0063-498D-95FE-C3630F6C45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6B97D4-7C89-4272-AB4D-DEBAEBEB6B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38ED6-1DA9-4068-BEB5-6A75BF408A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E4A2E-A85E-4540-A9A5-24D735397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BC0F11-1348-44A5-AE37-1E492DD600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51FD1E-600E-4AC0-9447-AFE15C646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EB36-7619-404D-B775-036761A6C5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2D7670-18F3-4F74-89EA-1DB0FFA3F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E2A9B-D595-4C64-B0CF-1ADD49F25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370C0A-5F38-4FA0-896A-7F20283CF9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A3FC76-E48C-4243-85F0-7240E5F2E6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DAC13-A40E-4D2F-9EB7-2A691DB1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11EAB7-2858-4D0F-9967-513DF6374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E0250B-8348-45CA-8D0F-F5282A339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2BF7F-4874-40CE-AA31-42C2A31529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8E580-91B1-4DF0-8AE9-A654D72F8D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115B5D-8755-4484-9B9A-B081E33C65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C86C8-B179-4C2F-82A1-25C7C10CDF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23B4-A4D6-43D2-9500-02FBB539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F702C-C57A-42F0-AC61-19C727951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10FDC-6EE4-4F50-98AD-A6C0591C2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F6B8C-77F4-40A3-A6A0-66F38B998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B11A8-F3EC-471A-B48E-6B228B274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C33C7-C1E9-4356-A84B-E2BBEF90B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92F33-8AEA-4BEE-B38D-E6DD356AB80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D3049D-3F26-481B-A943-8AF23C182DF5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Internetwork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IS Func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ay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X.75 used to interconnect X.25 packet switched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 not often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IP dominan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rresponds to datagram mechanism in packet switch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NPDU treated separa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layer protocol common to all DTE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n generically as the internet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uch internet protocol developed for ARPA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1 (Get it and study 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wer layer protocol needed to access particular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less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vant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exi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bu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unnecessary overhe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guaranteed order of deliver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ackets can take different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liability is responsibility of next layer up (e.g. TCP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4920"/>
          <a:stretch/>
        </p:blipFill>
        <p:spPr>
          <a:xfrm>
            <a:off x="3832200" y="0"/>
            <a:ext cx="53118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ign Iss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and re-assemb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29528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s and routers maintain routing tab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cate next router to which datagram should be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ay contain alternative rou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lexible response to congestion and erro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 specifies route as sequential list of routers to be follow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io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gram Lifeti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257120"/>
            <a:ext cx="8178840" cy="4686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s could loop indefinite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sumes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protocol may need upper bound on datagram lif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marked with lifetim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o Live field in 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ce lifetime expires, datagram discarded (not forwarde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p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ecrement time to live on passing through a each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cou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94320" indent="-198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to know how long since last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Aside: compare with Logan’s Run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an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-assembl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 packet siz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to re-assem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sults in packets getting smaller as data traverses interne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mediate re-assemb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large buffers at rout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uffers may fill with fragmen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ll fragments must go through sam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nhibits dynamic routing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re-assembles at destination on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 fields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Unit Identifier (ID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dentifies end system originated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ource and destination addres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Protocol layer generating data (e.g. TC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Identification supplied by that lay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ength of user data in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Fragmentation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fs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ition of fragment of user data in original datagr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multiples of 64 bits (8 octet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ahoma"/>
              </a:rPr>
              <a:t>More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fla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that this is not the last frag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unications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acility that provides data transfer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inter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llection of communications networks interconnected by bridges and/or rout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Internet - note upper case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global collection of thousands of individual machines and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8440" indent="-2984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ran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rporate internet operating within the organ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46200" indent="-2484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(TCP/IP and http)technology to deliver documents and resour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rcRect l="0" t="0" r="0" b="5706"/>
          <a:stretch/>
        </p:blipFill>
        <p:spPr>
          <a:xfrm>
            <a:off x="1295280" y="1371600"/>
            <a:ext cx="5791320" cy="544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aling with Fail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may fail if some fragments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detect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assembly time o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signed to first fragment to arr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out expires before all fragments arrive, discard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packet lifetime (time to live in I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time to live runs out, kill parti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rror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guarante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should attempt to inform source if packet discarded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or time to live expir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may modify 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inform high layer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gram identification need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(Look up ICM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routers and/or stations to limit rate of incoming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mited in connectionless syst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low control pack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esting reduced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ICM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 Protocol (IP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t of TCP/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interface with higher lay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ies protocol format and mechanis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imitiv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s to be perform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m of primitive implementation depend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subroutine cal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quest transmission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tify user of arrival of data un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to pass data and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3000"/>
          </a:bodyPr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ipient e.g. TC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pecify treatment of data unit during transmission through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4400" indent="-2844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urce, destination address and user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iquely identifies PDU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eded for re-assembly and error repor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16680" indent="-2372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arameter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n’t fragment indicat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IP fragment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f not, may not be possible to del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on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 of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oughpu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or hig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eam 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stam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d System (E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attached to one of the networks of an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pports end-user applications or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mediate System (IS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vice used to connect two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communication between end systems attached to different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3" name="" descr=""/>
          <p:cNvPicPr/>
          <p:nvPr/>
        </p:nvPicPr>
        <p:blipFill>
          <a:blip r:embed="rId1"/>
          <a:srcRect l="0" t="0" r="0" b="20006"/>
          <a:stretch/>
        </p:blipFill>
        <p:spPr>
          <a:xfrm>
            <a:off x="533520" y="1801800"/>
            <a:ext cx="8001000" cy="383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urrently 4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 v6 - see la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header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32 bit wor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ing op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tal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f datagram, in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with addresses and user protocol to identify datagram uniqu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ag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r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n’t fra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to l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higher layer to receive data field at destin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eader Field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verified and recomputed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6 bit ones complement sum of all 16 bit words in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o zero during calc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d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fill to multiple of 32 bits lo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Fiel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rries user data from next layer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ger multiple of 8 bits long (oct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x length of datagram (header plus data) 65,535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A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32 bit global interne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twork part and host p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ass 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with binary 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0 reser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01111111 (127) reserved for loopba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nge 1.x.x.x to 126.x.x.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B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28.x.x.x to 191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ctet also included in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14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16,384 class B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Addresses - Class C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rt 11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ange 192.x.x.x to 223.x.x.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and third octet also part of network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ahoma"/>
              </a:rPr>
              <a:t>21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= 2,097,152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arly all alloca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IPv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ubnets and Subnet Mask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arbitrary complexity of internetworked LANs within organ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ulate overall internet from growth of network numbers and routing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te looks to rest of internet like sing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LAN assigned subne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portion of address partitioned into subnet number and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l routers route within subnetted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bnet mask indicates which bits are subnet number and which are host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Using Subne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1" name="" descr=""/>
          <p:cNvPicPr/>
          <p:nvPr/>
        </p:nvPicPr>
        <p:blipFill>
          <a:blip r:embed="rId1"/>
          <a:srcRect l="0" t="0" r="0" b="8387"/>
          <a:stretch/>
        </p:blipFill>
        <p:spPr>
          <a:xfrm>
            <a:off x="990720" y="1371600"/>
            <a:ext cx="7086600" cy="536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Ter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i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used to connect two LANs using similar LAN protoco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ddress filter passing on packets to the required network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2 (Data Lin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-3326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s two (possibly dissimilar) networ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s internet protocol present in each router and end syste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-27720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SI Layer 3 (Networ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07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26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Control Message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92 (get it and study i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fer of (control) messages from routers and hosts to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eedback about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time to live exp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ed in IP datagra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CMP Message Format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9461"/>
          <a:stretch/>
        </p:blipFill>
        <p:spPr>
          <a:xfrm>
            <a:off x="685800" y="1371600"/>
            <a:ext cx="7391520" cy="537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- Version Numb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 1-3 defined and repl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4 - current 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5 - streams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P v6 - replacement for IP v4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uring development it was called IPng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Gene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hy Change IP?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space exhau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wo level addressing (network and host) wastes sp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addresses used even if not connected to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wth of networks and the Inter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nded use of TCP/I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address per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ments for new types of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RFC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752 - Recommendations for the IP Next Generation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460 - Overall spec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2373 - addressing struct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s (find the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xpanded address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28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proved option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parate optional headers between IPv6 header and transport layer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st are not examined by intermediate rou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roved speed and simplified router process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asier to extend op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 auto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ynamic assignment of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Enhanc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creased addressing flexi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ycast - delivered to one of a set of no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scalability of multicast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 for resource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places type of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beling of packets to particular traffic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ows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al time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rcRect l="0" t="0" r="0" b="13926"/>
          <a:stretch/>
        </p:blipFill>
        <p:spPr>
          <a:xfrm>
            <a:off x="1874880" y="1371600"/>
            <a:ext cx="483084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tension Header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p-by-Hop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 processing at each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ilar to v4 source ro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uthent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capsulating security paylo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destination n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1" name="" descr=""/>
          <p:cNvPicPr/>
          <p:nvPr/>
        </p:nvPicPr>
        <p:blipFill>
          <a:blip r:embed="rId1"/>
          <a:srcRect l="0" t="0" r="0" b="12234"/>
          <a:stretch/>
        </p:blipFill>
        <p:spPr>
          <a:xfrm>
            <a:off x="914400" y="1447920"/>
            <a:ext cx="7543800" cy="47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networking Protoco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rcRect l="0" t="0" r="0" b="27584"/>
          <a:stretch/>
        </p:blipFill>
        <p:spPr>
          <a:xfrm>
            <a:off x="533520" y="1886040"/>
            <a:ext cx="7848360" cy="3828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ffic Cla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es or priorit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ill under develop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RFC 246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Lab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hosts requesting special handl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yload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s all extension headers plus user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 v6 Header Field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dentifies type of hea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sion or next layer up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stination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Pv6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128 bits lo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igned to interf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gle interface may have multiple un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ree types of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ypes of addres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ngl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y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 (typically different nod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ny one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eare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of interfa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ed to all interfaces identifi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op-by-Hop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pti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umbo pay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Over 2</a:t>
            </a:r>
            <a:r>
              <a:rPr b="0" lang="en-US" sz="2000" spc="-1" strike="noStrike" baseline="30000">
                <a:solidFill>
                  <a:srgbClr val="000000"/>
                </a:solidFill>
                <a:latin typeface="Tahoma"/>
              </a:rPr>
              <a:t>16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= 65,535 octe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 aler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ells the router that the contents of this packet is of interest to the rou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support for RSPV (chapter 16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nly allowed at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fragmentation at intermediate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 must perform path discovery to find smallest MTU of intermediat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ource fragments to match MTU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wise limit to 1280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agmentation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agmentation offs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er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fla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dentif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outing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one or more intermediate nodes to be visi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xt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eader extension leng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lef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number of nodes still to be visi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stination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ame format as Hop-by-Hop options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es that refer to group of hosts on one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media “broadcast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eleconferenc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b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tributed comput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al time workgrou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of Internetwork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nk between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nimum physical and link lay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 and delivery of data between processes on different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ounting services and status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dependent of network architect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fi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3" name="" descr=""/>
          <p:cNvPicPr/>
          <p:nvPr/>
        </p:nvPicPr>
        <p:blipFill>
          <a:blip r:embed="rId1"/>
          <a:srcRect l="0" t="0" r="0" b="9827"/>
          <a:stretch/>
        </p:blipFill>
        <p:spPr>
          <a:xfrm>
            <a:off x="3240000" y="0"/>
            <a:ext cx="590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roadcast and Multiple Un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roadcast a copy of packet to each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13 copies of pack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nica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 packet only to networks that have hosts i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1 pack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ue Multicas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termine least cost path to each network that has host in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ives spanning tree configuration containing networks with group memb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 single packet along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replicate packets at branch points of spanning tre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packets requir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9" name="" descr=""/>
          <p:cNvPicPr/>
          <p:nvPr/>
        </p:nvPicPr>
        <p:blipFill>
          <a:blip r:embed="rId1"/>
          <a:srcRect l="0" t="0" r="0" b="18645"/>
          <a:stretch/>
        </p:blipFill>
        <p:spPr>
          <a:xfrm>
            <a:off x="457200" y="1447920"/>
            <a:ext cx="8153280" cy="4591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ay have to forward more than one copy of packe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vention needed to identify multicast addr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4 - Class D - start 111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Pv6 - 8 bit prefix, all 1, 4 bit flags field, 4 bit scope field, 112 bit group identifi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must translate between IP multicast addresses and list of networks containing group memb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 must translate between IP multicast address and network multicast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ments for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casting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echanism required for hosts to join and leave multicast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must exchange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ch networks include members of given gro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ufficient info to work out shortest path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ing algorithm to work out shortest pa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must determine routing paths based on source and destinatio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net Group Managemen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1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ost and router exchange of multicast group inf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roadcast LAN to transfer info among multiple hosts and rou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1"/>
          <a:srcRect l="0" t="0" r="0" b="42221"/>
          <a:stretch/>
        </p:blipFill>
        <p:spPr>
          <a:xfrm>
            <a:off x="533520" y="2765520"/>
            <a:ext cx="8076960" cy="1425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er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1 - query sent by rout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 - report sent by hos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hecks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oup addr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in reques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alid group address in report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GMP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o join a group, hosts sends repor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oup address of group to jo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IP datagram to same multicast destinatio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hosts in group receive mess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outers listen to all multicast addresses to hear all re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ers periodically issue request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t to all-hosts multica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05600" indent="-2714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that want to stay in groups must read all-hosts messages and respond with report for each group it is 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etwork Architecture Featur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 siz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ss mechanis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ou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tus repor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ou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access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based or 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oup Membership in IPv6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unction of IGMP included in ICMP v6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w group membership termination message to allow host to leave gro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er, S. Internetworking with TCP/IP,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ume 1, Prentice-Ha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RFCs mentioned plus any others connected with these topi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ads of Web sites on TCP/IP and IP version 6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rchitectural Approach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that each network is connection orien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S connect two or more network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S appear as DTE to each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connection set up between D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catenation of logical connections across networ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 network virtual circuits joined by I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require enhancement of local network servi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802, FDDI are datagram servic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29T09:42:53Z</dcterms:created>
  <dc:creator>Adrian &amp; Wendy</dc:creator>
  <dc:description/>
  <dc:language>en-US</dc:language>
  <cp:lastModifiedBy>Adrian &amp; Wendy</cp:lastModifiedBy>
  <dcterms:modified xsi:type="dcterms:W3CDTF">1999-10-29T15:30:18Z</dcterms:modified>
  <cp:revision>53</cp:revision>
  <dc:subject/>
  <dc:title>William Stallings Data and Computer Communications</dc:title>
</cp:coreProperties>
</file>